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9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ng" ContentType="image/png"/>
  <Override PartName="/ppt/media/image8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AA9D-66E4-4A88-A422-49A13DCB2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47DD-A60A-4E1C-B74F-40BE80755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FCA0-2E5C-4435-913D-47860330C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6417-7AFE-43B8-BEE9-0995303CC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36218-05A2-4120-A037-A6A98FA6D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FEFAC-6F70-41B6-8881-6428D5769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1052A-FF20-4DED-91BE-C3A9ABC83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E2860-6626-4125-9779-54648F4C1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5AB79-295B-42E5-A867-4E1430C18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FF400-2B30-4BBF-BB8A-90F0C77E7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85FF0-8572-47EB-BEA3-343EB16B3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1E3D-2E75-4A14-86C7-115F5C275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9F530-485C-4528-B383-12F5353FC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A7305-8697-495A-8CCE-A3A4C272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13EDC-B38C-4560-A3BC-EBF7E3937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3888D-4725-4345-B85C-26ED503E3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EFB66-2DDC-4162-A182-A699F87F4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4882-09E3-4DAD-8584-EE64FA25D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FDF9-634C-49FF-BE60-57FBBE5F6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FF36-28B1-4ECE-8500-7681C82BB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A52E-B628-4E1C-B54D-61B721D04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8036-F94E-4048-B515-16F91576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1F19-C9E0-48DB-B56C-AE1CB4AD8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2419-EFF4-4796-894E-B038C46B5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08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4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  <a:p>
            <a:pPr lvl="1" marL="660960" indent="-254160">
              <a:spcBef>
                <a:spcPts val="799"/>
              </a:spcBef>
              <a:buClr>
                <a:srgbClr val="004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  <a:p>
            <a:pPr lvl="2" marL="1017000" indent="-203400">
              <a:spcBef>
                <a:spcPts val="799"/>
              </a:spcBef>
              <a:buClr>
                <a:srgbClr val="004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  <a:p>
            <a:pPr lvl="3" marL="1424160" indent="-203400">
              <a:spcBef>
                <a:spcPts val="799"/>
              </a:spcBef>
              <a:buClr>
                <a:srgbClr val="004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  <a:p>
            <a:pPr lvl="4" marL="1830960" indent="-203400">
              <a:spcBef>
                <a:spcPts val="799"/>
              </a:spcBef>
              <a:buClr>
                <a:srgbClr val="00408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  <a:p>
            <a:pPr lvl="5" marL="1830960" indent="-203400">
              <a:spcBef>
                <a:spcPts val="799"/>
              </a:spcBef>
              <a:buClr>
                <a:srgbClr val="00408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  <a:p>
            <a:pPr lvl="6" marL="1830960" indent="-203400">
              <a:spcBef>
                <a:spcPts val="799"/>
              </a:spcBef>
              <a:buClr>
                <a:srgbClr val="00408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08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08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08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08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F75D4-01B8-40F6-AC2F-235BEC1207E3}" type="slidenum">
              <a:rPr b="0" lang="en-US" sz="1400" spc="-1" strike="noStrike">
                <a:solidFill>
                  <a:srgbClr val="00408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08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08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08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08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08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09B36-9EB4-417B-A2C1-658F38B680F0}" type="slidenum">
              <a:rPr b="0" lang="en-US" sz="1400" spc="-1" strike="noStrike">
                <a:solidFill>
                  <a:srgbClr val="00408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08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408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408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08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408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408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408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408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408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408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408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408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408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9.pct"/><Relationship Id="rId5" Type="http://schemas.openxmlformats.org/officeDocument/2006/relationships/image" Target="../media/image5.pct"/><Relationship Id="rId6" Type="http://schemas.openxmlformats.org/officeDocument/2006/relationships/image" Target="../media/image5.pct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080"/>
                </a:solidFill>
                <a:latin typeface="Verdana"/>
              </a:rPr>
              <a:t>The Face on the Milk Carton</a:t>
            </a: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Book by: Caroline B. Cooney</a:t>
            </a:r>
            <a:br>
              <a:rPr sz="3200"/>
            </a:b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Powerpoint by: Keely Gambler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080"/>
                </a:solidFill>
                <a:latin typeface="Verdana"/>
              </a:rPr>
              <a:t>Thank You</a:t>
            </a: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080"/>
                </a:solidFill>
                <a:latin typeface="Verdana"/>
              </a:rPr>
              <a:t>Exciting</a:t>
            </a: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505320" y="304920"/>
            <a:ext cx="5105160" cy="5032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080"/>
                </a:solidFill>
                <a:latin typeface="Verdana"/>
              </a:rPr>
              <a:t>Mystery</a:t>
            </a: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35268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080"/>
                </a:solidFill>
                <a:latin typeface="Verdana"/>
              </a:rPr>
              <a:t>Surprising</a:t>
            </a: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080"/>
                </a:solidFill>
                <a:latin typeface="Verdana"/>
              </a:rPr>
              <a:t>Read Aloud</a:t>
            </a: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Pgs 71-72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Chapter 8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288120" y="1143000"/>
            <a:ext cx="2627280" cy="4419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248520" y="3505320"/>
            <a:ext cx="12600" cy="126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75248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567320" y="3424320"/>
            <a:ext cx="7920" cy="7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567320" y="3424320"/>
            <a:ext cx="7920" cy="7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567320" y="3424320"/>
            <a:ext cx="7920" cy="79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6400800" y="3276720"/>
            <a:ext cx="12600" cy="126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5638680" y="2133720"/>
            <a:ext cx="12960" cy="12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5181480" cy="3824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5562720" y="1905120"/>
            <a:ext cx="3306600" cy="3657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8T13:29:01Z</dcterms:created>
  <dc:creator>cysd</dc:creator>
  <dc:description/>
  <dc:language>en-US</dc:language>
  <cp:lastModifiedBy>cysd</cp:lastModifiedBy>
  <dcterms:modified xsi:type="dcterms:W3CDTF">2008-11-21T14:10:02Z</dcterms:modified>
  <cp:revision>7</cp:revision>
  <dc:subject/>
  <dc:title>The Face on the Milk Carton</dc:title>
</cp:coreProperties>
</file>